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F9BB-5FA2-4D6F-BE31-A4FFDD768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67ED-552F-4E15-A6B6-108B3901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3F31-88B9-42DD-A9EC-004583DE7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7EFD-3F01-4799-BE87-12F63E5F6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5F7D-80B8-4E05-9923-179D1406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64B3-4047-43E6-8CF0-1F376217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9CB2-2A32-4715-B6BF-3ACCFEF4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B16A-E978-4B58-B2FA-64E4BE89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C9E5-8CEE-4DBB-8F2A-8250C895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B142-1DFE-46B1-ABD0-1310B712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3CC3-B0CA-4F45-9950-A00E8374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D8F5-B5A3-4CEB-A3A7-8A82D6E7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280D-3777-4B0C-8A8D-9378CA7A9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web.mit.edu/invent/iow/wakefield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15000" y="4800600"/>
            <a:ext cx="3200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7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447920" y="228600"/>
            <a:ext cx="6325920" cy="358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584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CHOCOLATE</a:t>
            </a:r>
            <a:endParaRPr b="0" lang="en-US" sz="4000" spc="1" strike="noStrike">
              <a:ln w="15840">
                <a:solidFill>
                  <a:srgbClr val="0000ff"/>
                </a:solidFill>
                <a:miter/>
              </a:ln>
              <a:solidFill>
                <a:srgbClr val="00ff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584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CHIP</a:t>
            </a:r>
            <a:endParaRPr b="0" lang="en-US" sz="4000" spc="1" strike="noStrike">
              <a:ln w="15840">
                <a:solidFill>
                  <a:srgbClr val="0000ff"/>
                </a:solidFill>
                <a:miter/>
              </a:ln>
              <a:solidFill>
                <a:srgbClr val="00ff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584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COOKIES</a:t>
            </a:r>
            <a:endParaRPr b="0" lang="en-US" sz="4000" spc="1" strike="noStrike">
              <a:ln w="15840">
                <a:solidFill>
                  <a:srgbClr val="0000ff"/>
                </a:solidFill>
                <a:miter/>
              </a:ln>
              <a:solidFill>
                <a:srgbClr val="00ff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934320" y="1219320"/>
            <a:ext cx="1838160" cy="185580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4495680"/>
            <a:ext cx="2211480" cy="20574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57200" y="1371600"/>
            <a:ext cx="1812960" cy="169560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316640" y="4419720"/>
            <a:ext cx="1827360" cy="1695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7620120" y="6200640"/>
            <a:ext cx="1523880" cy="642600"/>
          </a:xfrm>
          <a:prstGeom prst="rect">
            <a:avLst/>
          </a:prstGeom>
          <a:solidFill>
            <a:srgbClr val="0000ff"/>
          </a:solidFill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RUN A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66880" y="579132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ented by: Ruth Wake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8763120" y="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Wakefield"/>
          <p:cNvPicPr/>
          <p:nvPr/>
        </p:nvPicPr>
        <p:blipFill>
          <a:blip r:embed="rId1"/>
          <a:stretch/>
        </p:blipFill>
        <p:spPr>
          <a:xfrm>
            <a:off x="0" y="4495680"/>
            <a:ext cx="9144000" cy="2362320"/>
          </a:xfrm>
          <a:prstGeom prst="rect">
            <a:avLst/>
          </a:prstGeom>
          <a:ln w="76320">
            <a:solidFill>
              <a:srgbClr val="ff33cc"/>
            </a:solidFill>
            <a:miter/>
          </a:ln>
        </p:spPr>
      </p:pic>
      <p:pic>
        <p:nvPicPr>
          <p:cNvPr id="51" name="" descr="Wakefield"/>
          <p:cNvPicPr/>
          <p:nvPr/>
        </p:nvPicPr>
        <p:blipFill>
          <a:blip r:embed="rId2"/>
          <a:stretch/>
        </p:blipFill>
        <p:spPr>
          <a:xfrm>
            <a:off x="0" y="0"/>
            <a:ext cx="4952880" cy="434340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5181480" y="1066680"/>
            <a:ext cx="38102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s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ocolate chip cook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January 11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wakefield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365760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33526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colate chip cookies are a awesome snack for the go and at hom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276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66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ention: chocolate chip cook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colate chip cookies were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vented back around 17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reate chocolate chip cookies they used a special candy bar for the chocolate chi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used Semi-sweet chocolate bar for the chi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cookies were created they were high ranking and still 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664160" y="2516040"/>
          <a:ext cx="400500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4160" y="2516040"/>
                    <a:ext cx="400500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Ruth Wakefield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th was responsible for coming up with the conco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kefield graduated from the Framingham State Normal School Department of household Arts IN 192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graduating she worked as a dieting and food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th and her husband  purchased a Cape Cod-Style toll house located between Boston and New Bedf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th used candy bar to make chocolate chip cook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th passed away in 197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8:31:19Z</dcterms:created>
  <dc:creator>install</dc:creator>
  <dc:description/>
  <dc:language>en-US</dc:language>
  <cp:lastModifiedBy>install</cp:lastModifiedBy>
  <dcterms:modified xsi:type="dcterms:W3CDTF">2011-01-14T16:54:02Z</dcterms:modified>
  <cp:revision>14</cp:revision>
  <dc:subject/>
  <dc:title>Slide 1</dc:title>
</cp:coreProperties>
</file>